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661B0-00E0-4C02-A192-B7B91DBDA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BB70-9895-4C06-9560-04A40BBE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D403-B64B-417A-A75D-9B01CE500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3FB21-FF12-4CBF-B125-4618511C8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F2ED-C3FF-4F28-9628-95F23323B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FFB8-965A-4DD0-9B83-CBB0D619C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0288-54FB-4BAB-9F2C-7F81043FD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9467-E7B3-4349-BD85-E29613CF3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0FBF-3132-47EB-BE41-E757F0FA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937E-A345-4C0E-A6A4-103470B8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FC23-8F43-46D5-9E4E-6BDCB24FA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2366-F6A7-4A6F-99FF-F0E26BC3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FF210-2D3C-4DEA-AA65-DBFDECC9F5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069280" y="2743200"/>
            <a:ext cx="2887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eling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nenti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228240"/>
            <a:ext cx="6514920" cy="20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DELING EXPONENTIAL GROWTH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2432160" y="2209680"/>
            <a:ext cx="240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1" lang="en-US" sz="32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3200" spc="-1" strike="noStrike" baseline="30000">
                <a:solidFill>
                  <a:srgbClr val="00b050"/>
                </a:solidFill>
                <a:latin typeface="Comic Sans MS"/>
              </a:rPr>
              <a:t>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380880" y="2743200"/>
            <a:ext cx="6248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hen a real life quantity increases by a fixed percent each year (or other time period), the amount of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 of the quantity after </a:t>
            </a:r>
            <a:r>
              <a:rPr b="0" i="1" lang="en-US" sz="2800" spc="-1" strike="noStrike">
                <a:solidFill>
                  <a:srgbClr val="00b050"/>
                </a:solidFill>
                <a:latin typeface="Comic Sans MS"/>
              </a:rPr>
              <a:t>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years can be modeled by the equ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i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(1 + </a:t>
            </a:r>
            <a:r>
              <a:rPr b="1" i="1" lang="en-US" sz="28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i="1" lang="en-US" sz="2800" spc="-1" strike="noStrike" baseline="30000">
                <a:solidFill>
                  <a:srgbClr val="00b050"/>
                </a:solidFill>
                <a:latin typeface="Comic Sans MS"/>
              </a:rPr>
              <a:t>t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533520" y="5638680"/>
            <a:ext cx="57909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is model,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is the initial amoun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r is the percen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increase expressed as a decimal.  The quantity 1 + r is called the growth fa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OMPOUND INTEREST A = </a:t>
            </a:r>
            <a:r>
              <a:rPr b="1" lang="en-US" sz="40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(1 +    )</a:t>
            </a:r>
            <a:r>
              <a:rPr b="1" lang="en-US" sz="4000" spc="-1" strike="noStrike" baseline="30000">
                <a:solidFill>
                  <a:srgbClr val="7030a0"/>
                </a:solidFill>
                <a:latin typeface="Comic Sans MS"/>
              </a:rPr>
              <a:t>n</a:t>
            </a:r>
            <a:r>
              <a:rPr b="1" lang="en-US" sz="4000" spc="-1" strike="noStrike" baseline="30000">
                <a:solidFill>
                  <a:srgbClr val="00b050"/>
                </a:solidFill>
                <a:latin typeface="Comic Sans MS"/>
              </a:rPr>
              <a:t>t</a:t>
            </a:r>
            <a:r>
              <a:rPr b="1" lang="en-US" sz="40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an initial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principal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P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deposited in an account that pays interest at an annual rate </a:t>
            </a:r>
            <a:r>
              <a:rPr b="0" i="1" lang="en-US" sz="32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 (expressed as a decimal), </a:t>
            </a:r>
            <a:r>
              <a:rPr b="0" i="1" lang="en-US" sz="3200" spc="-1" strike="noStrike">
                <a:solidFill>
                  <a:srgbClr val="7030a0"/>
                </a:solidFill>
                <a:latin typeface="Comic Sans MS"/>
              </a:rPr>
              <a:t>compounded n times per year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.  The amount A in the account after </a:t>
            </a:r>
            <a:r>
              <a:rPr b="0" i="1" lang="en-US" sz="3200" spc="-1" strike="noStrike">
                <a:solidFill>
                  <a:srgbClr val="00b050"/>
                </a:solidFill>
                <a:latin typeface="Comic Sans MS"/>
              </a:rPr>
              <a:t>t year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an be modeled by this equation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" name="Object 2"/>
              <p:cNvSpPr txBox="1"/>
              <p:nvPr/>
            </p:nvSpPr>
            <p:spPr>
              <a:xfrm>
                <a:off x="3540240" y="990720"/>
                <a:ext cx="920520" cy="100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r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DELING EXPONENTIAL DECAY FUNC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560" y="2743200"/>
            <a:ext cx="61722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en a real life quantity decreases by a fixed percent each year (or other time period), the amount of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y of the quantity after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t years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can be modeled by the equation y = </a:t>
            </a:r>
            <a:r>
              <a:rPr b="0" i="1" lang="en-US" sz="32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(1 - </a:t>
            </a:r>
            <a:r>
              <a:rPr b="0" i="1" lang="en-US" sz="32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i="1" lang="en-US" sz="3200" spc="-1" strike="noStrike" baseline="30000">
                <a:solidFill>
                  <a:srgbClr val="00b050"/>
                </a:solidFill>
                <a:latin typeface="Comic Sans MS"/>
              </a:rPr>
              <a:t>t</a:t>
            </a: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.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3"/>
          <p:cNvSpPr/>
          <p:nvPr/>
        </p:nvSpPr>
        <p:spPr>
          <a:xfrm>
            <a:off x="2057400" y="21337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 =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(1 - </a:t>
            </a:r>
            <a:r>
              <a:rPr b="1" lang="en-US" sz="28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1" lang="en-US" sz="2800" spc="-1" strike="noStrike" baseline="30000">
                <a:solidFill>
                  <a:srgbClr val="00b050"/>
                </a:solidFill>
                <a:latin typeface="Comic Sans MS"/>
              </a:rPr>
              <a:t>t</a:t>
            </a:r>
            <a:r>
              <a:rPr b="1" lang="en-US" sz="2800" spc="-1" strike="noStrike" baseline="30000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609480" y="6400800"/>
            <a:ext cx="5943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In this model, </a:t>
            </a: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a is the initial amount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i="1" lang="en-US" sz="2800" spc="-1" strike="noStrike">
                <a:solidFill>
                  <a:srgbClr val="0070c0"/>
                </a:solidFill>
                <a:latin typeface="Comic Sans MS"/>
              </a:rPr>
              <a:t>r is the percent decrease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xpressed as a decimal.  The quantity 1 – r is called the decay facto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DELING EXPONENTIAL DECA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61722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AUTOMOBILES:  You buy a new car for $24,000.  The value y of the car decreases by 16% each yea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457200" y="3809880"/>
            <a:ext cx="640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) Write a exponential decay model for the value of the car.  Use the model to estimate the value after 2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609480" y="5638680"/>
            <a:ext cx="563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) Graph the mod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57200" y="6248520"/>
            <a:ext cx="5638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)  Use the graph to estimate when the car will have a value of $12,000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MODELING EXPONENTIAL GROW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685800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INTERNET HOSTS:  In January, 1993, there were about 1,313,000 Internet hosts.  During the next five years, the number of hosts increased by 100% per year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304920" y="4495680"/>
            <a:ext cx="655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)  Write a model giving the number h (in millions) of hosts t years after 1993.  About how many hosts were in 1996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511560" y="6477120"/>
            <a:ext cx="342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b) Graph the mod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380880" y="7162920"/>
            <a:ext cx="6019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c)  Use the graph to estimate the year when there were 30 million host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21T12:12:12Z</dcterms:created>
  <dc:creator>sraja</dc:creator>
  <dc:description/>
  <dc:language>en-US</dc:language>
  <cp:lastModifiedBy>sraja</cp:lastModifiedBy>
  <dcterms:modified xsi:type="dcterms:W3CDTF">2011-04-21T13:59:43Z</dcterms:modified>
  <cp:revision>11</cp:revision>
  <dc:subject/>
  <dc:title>MODELING EXPONENTIAL GROWTH FUNCTION</dc:title>
</cp:coreProperties>
</file>